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Fallout shelter built by Louis Severance adjacent to his home near Akron, Mich., includes a special ventilation and escape hatch, an entrance to his basement, tiny kitchen, running water, sanitary facilities, and a sleeping and living area for the family of four. The shelter cost about $1,000. It has a 10-inch reinforced concrete ceiling with thick earth cover and concrete walls. Severance says, 'Ever since I was convinced what damage H-Bombs can do, I've wanted to build the shelter. Just as with my chicken farm, when there's a need I build it.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ADE-8A73-487E-A727-187382DB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6A1-9C69-4C38-ADED-EF242CFB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386-AF18-42C7-811B-45E0EDD4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DD2-3C06-4EB5-83B1-8D23FE2E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8635-D2DE-417F-95EC-581D6FB6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16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9FE1-B140-4AF0-8F76-114F151D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324A-D2E9-45A0-AA9B-6701F9F6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B7DC-9F67-4937-A3BB-5FD02EEA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255E-3FEB-488F-88D1-9A3CC596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168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B02D-1D67-41B8-AEAC-152F316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7631-34BE-4F04-A0FE-DE54F1C5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16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A93-7BD5-4F49-A398-1CBD2796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2FF1-FDD2-4C89-B857-9D7912C1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6090-A503-466F-9EE4-F8241EC9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A46E-670F-41ED-BA69-2C9C177A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87E0-0A30-4D29-BFEC-8D278487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B803-C826-4C0A-BE59-74169FFC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AF2-6866-45C1-99B0-F576BF4B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D73-E383-4847-895E-C89C901C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4B4-009D-46A5-A5E1-8990F65E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168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C32-9782-4673-8E66-CB990FB0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EE0-D0E5-4F0C-9B7C-51B88178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06A-AD1C-4890-9F0D-AEECC94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FA6-150E-4B45-9C18-0247FD86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1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7157C-B084-4603-8AD5-1C27D15F36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0B95B-0925-4A91-A86E-D9A10754497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qXu-5jw60" TargetMode="Externa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ld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clash of ideolo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1904760" cy="1252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676520" y="3733920"/>
            <a:ext cx="182700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Arms R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3320" y="1919160"/>
            <a:ext cx="872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weapons became the biggest     source of tension in the Cold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479600" indent="-565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.S. used used two nuclear bombs on Japanese cities to end World War II in 194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479600" indent="-565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SSR tested their first nuke in 1949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1950’s, both sides had enough weapons to literally wipe out the other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479600" indent="-565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 = Mutually Assured De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ban Missile Cri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1640"/>
            <a:ext cx="8686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ld War hit its most tense moment during the Cuban Missi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sis in October of 19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viets placed missiles in Cuba (90 miles from Florid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fter 13 tense days of negotiation with U.S. President John F. Kennedy, Soviet President Kruschev agreed to remo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siles from Cu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at was it like to live under the threat of a nuclear attack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ck and Cover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youtube.com/watch?v=IKqXu-5jw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-9360"/>
            <a:ext cx="861048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nsion around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9360" y="979560"/>
            <a:ext cx="82296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.S. never actually went to battle with the Sovi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1200" indent="-331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her, U.S. fought in places to prevent the spread of Soviet influence - e.g. Korea, Vietnam, Cuba, Nicar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1200" indent="-331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were afraid of “Domino Effect” – if China falls to Communism, then Korea will fall, then Vietnam will fall, then Cambodia will fal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1200" indent="-331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the U.S. And Soviets also fought “proxy wars” - supporting rival forces within countries in Southeast Asia, the Middle East, Africa, and Latin Ame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91120" y="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it en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4320" y="364680"/>
            <a:ext cx="4221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idents Reagan and Premier Gorbachev began peace talks in the mid-1980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late 1980’s, Soviets had loosened their grip on other countries they had control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viet Communist Party steps out of power in 1989, ending 73-year re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vember, 1989:  Removal of Berlin Wall beg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viet Union breaks up into 15 countries in 199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0546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7240" y="229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uclear Arms Red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3240" y="2057040"/>
            <a:ext cx="3792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.S. and the USSR signed the START treaty in 199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led to both countries reducing the size of their nuclear arsen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400" y="1980720"/>
            <a:ext cx="37922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89360" y="1828800"/>
            <a:ext cx="5354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9360" y="103320"/>
            <a:ext cx="8224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uclear weapons toda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4680" y="1093680"/>
            <a:ext cx="8778960" cy="4849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743200" y="5303520"/>
            <a:ext cx="603576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rk blue:  Large stockpile with global ra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dium blue:  Small stockpile with global ra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le blue:  Small stockpile with regional ra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as the Cold War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nflict between the world’s two super-powers – the U.S. and the Soviet Union (USS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ed from 1945 until the break up of the Soviet Union in 199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wo countries never directly fought each other on the battle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ther, they competed for influence over other parts of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oots of the Cold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.S. and Soviet Union had been allies during WW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viets suffered more than any other Allied nation at the hands of Nazi Germ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1608120"/>
            <a:ext cx="3886200" cy="3143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5029200"/>
            <a:ext cx="8305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buClr>
                <a:srgbClr val="00ccff"/>
              </a:buClr>
              <a:buSzPct val="140000"/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WII comes to a close in 1945, U.S. and Soviets compete for influence in a rebuilding Europe, and eventually the entir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35160"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heres of Influence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viet dictator Josef Stalin wants Eastern Europe under Soviet control to act as a “buffer zone” from any future inva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in promises to allow free elections in Poland, but later goes against this prom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President Truman pushes for free democracies in Europe, which will create new markets for American g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man Doctrine” declares that U.S. will combat Communist influence worldw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“Iron Curtain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1946, Communist, Soviet-controlled governments are in place in most of central and eastern Europe, creating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rict boundary with democratic, American-influenced Western Eur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5410440" cy="3516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638680" y="3352680"/>
            <a:ext cx="31370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uilding allia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ern liberal democracies (US, UK, France, Canada, West Germany, and others) formed a military alliance called the North Atlantic Treaty Organization (NA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171520" indent="-432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O is still around today and sends soldiers to places like Afghanist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st countries form the Warsaw P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171520" indent="-432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stern European countries ruled as “satellites” of the Soviet U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79080"/>
            <a:ext cx="82249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492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98720" y="217440"/>
            <a:ext cx="7014960" cy="65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ising the Stak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12120" cy="63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ded Soviet influence makes Americans fear that their dominance may be coming to an 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-277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o Zedong leads successful Communist revolution in China (194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-277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viets successfully test atomic bomb (194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-277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sts North Korea invades South Korea, retreats but withstands U.S. military forces in the Korean War (1950-5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-277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viets send first satellite into space – Sputnik (195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-277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st East Germany government constructs Berlin Wall to prevent its citizens from escaping to the “free” West (196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1520" y="182160"/>
            <a:ext cx="8224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erlin Wall</a:t>
            </a:r>
            <a:br>
              <a:rPr sz="44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(Graffitied side on West, “death strip” on East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492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96920" y="1463760"/>
            <a:ext cx="7040520" cy="539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3:06:53Z</dcterms:created>
  <dc:creator>Dominic Lambek</dc:creator>
  <dc:description/>
  <dc:language>en-US</dc:language>
  <cp:lastModifiedBy>Dominic Lambek</cp:lastModifiedBy>
  <dcterms:modified xsi:type="dcterms:W3CDTF">2010-06-02T17:28:43Z</dcterms:modified>
  <cp:revision>9</cp:revision>
  <dc:subject/>
  <dc:title>The Cold War</dc:title>
</cp:coreProperties>
</file>